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10B-9FEB-40FE-8BB6-867534AE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B775-4F30-4EC0-980A-66F7AF9B0759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81F-F6DD-4970-A6D3-72518987B85E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9D3A-D1C7-4DC6-8ABA-F5FFA548858C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2DCB-BA62-4422-ADE2-F78F0CB8CB33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8F0-6652-4E3D-A69E-36740559C699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F58-E261-4397-AFE0-032179D84207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27E-02C7-41A1-A52A-7B6F645EFBCB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5F0F-D515-43CF-BBB9-D5E03A799551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5BC-51DA-4225-8979-A79E89BF2E7E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A06-9F1C-4860-B388-253EEF479E86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2D9-0D04-4FC2-9110-DBCE5725EDC7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1E60-AC4B-4E16-883A-F9EEB9EAACAD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3EE-69E3-4675-97D4-2EC33D0E7276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DECC-DF63-4ED2-B7B2-6A003DD06DE1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263-B1D2-419A-AED2-0EC6083F2031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443-7640-4004-A971-8EA63B440EB7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D3B-B2BB-4D9A-8183-14601704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48B-4132-44BE-A93C-055E67E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2B9-E50B-47E9-805F-9CA0FE8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8A6-D111-45DA-8D07-79664E44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3FB9-0BD9-4AD5-AE35-605F9F71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E1F0-59D3-4C51-BEF9-0CB7905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86EA-AC75-4D7E-908D-8A2F1AC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70C5-F11F-417B-9231-58141BC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DB6-B288-4AFD-BF4F-E739DE4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321-112A-4AC1-8404-0FEC035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9EA-5957-4D49-8A0A-AD416EE9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CC-25E5-42F9-878D-58DBA41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254-22E1-4F2E-9AAA-63933E2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7436-646F-4D53-85CF-7D08EA4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642-86C5-4F37-8BA9-B762496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D567-4228-41C4-9AB4-F046006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C5D6-38C1-4F59-B024-54353423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164-1B1C-473C-95D8-5E6082B0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858-B772-41D1-8CD3-6BDECD46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A6E-651D-46C9-B384-BE9672F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B15-3DDA-4585-BD81-AACA0EA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134-76E5-44F6-9A3B-9739D07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3B9-9934-4718-A0B6-6CD89FF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28E-76AF-4723-B009-B469F59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3272-119A-44C7-A38A-F41A05C36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1E4F-3E00-43DC-A5BC-476D1157E40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xo.typepad.com/blog/2004/12/amazing_tsunami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dale-h.schools.nsw.edu.au/faculty_pages/ind_arts_web/bridgeweb/commentary.htm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endranath.tripod.com/Applets/Waves/Twave01/Twave01Applet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60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Tsunami</a:t>
            </a:r>
            <a:endParaRPr b="0" i="1" lang="en-US" sz="6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6" name="Picture 1028" descr="China_2002_wave_350"/>
          <p:cNvPicPr/>
          <p:nvPr/>
        </p:nvPicPr>
        <p:blipFill>
          <a:blip r:embed="rId2"/>
          <a:stretch/>
        </p:blipFill>
        <p:spPr>
          <a:xfrm>
            <a:off x="4510080" y="0"/>
            <a:ext cx="46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 Definitions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magnitude (size) of the maximum distance that the medium moves from the equilibrium position.  It is a measure of a wave’s energy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 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6" name="Picture 4" descr="amplitude"/>
          <p:cNvPicPr/>
          <p:nvPr/>
        </p:nvPicPr>
        <p:blipFill>
          <a:blip r:embed="rId1"/>
          <a:stretch/>
        </p:blipFill>
        <p:spPr>
          <a:xfrm>
            <a:off x="609480" y="4687920"/>
            <a:ext cx="5715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(</a:t>
            </a:r>
            <a:r>
              <a:rPr b="0" i="1" lang="en-US" sz="3600" spc="-1" strike="noStrike">
                <a:solidFill>
                  <a:srgbClr val="fdfdfd"/>
                </a:solidFill>
                <a:latin typeface="Lucida Grande"/>
                <a:ea typeface="Times New Roman"/>
              </a:rPr>
              <a:t>λ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lambda) The distance between any 2 particles in phase 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8" name="Picture 1028" descr="wavelength"/>
          <p:cNvPicPr/>
          <p:nvPr/>
        </p:nvPicPr>
        <p:blipFill>
          <a:blip r:embed="rId1"/>
          <a:stretch/>
        </p:blipFill>
        <p:spPr>
          <a:xfrm>
            <a:off x="762120" y="3124080"/>
            <a:ext cx="66974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hase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wo particles which have the same velocities and displacements at any one time are said to be in phase. 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eriod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time for 1 complete vibration or the time to travel 1 wavelength (in seconds).  Symbol is T (it is a special time (t)).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 can be found by dividing time by the number of cycles.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2971800" y="4876920"/>
          <a:ext cx="182880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876920"/>
                    <a:ext cx="18288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number of waves per second (usually wave cycles or vibrations).  Symbol is ƒ.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It is also the inverse of the Period.</a:t>
            </a: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  ƒ = 1/T  or  T = 1/ƒ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he units of frequency are called </a:t>
            </a:r>
            <a:r>
              <a:rPr b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hertz (Hz)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, these are also 1/s.</a:t>
            </a:r>
            <a:br>
              <a:rPr sz="3600"/>
            </a:b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819520" y="2133720"/>
          <a:ext cx="153036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15303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7238880" cy="5639040"/>
          </a:xfrm>
          <a:prstGeom prst="rect">
            <a:avLst/>
          </a:prstGeom>
          <a:noFill/>
          <a:ln w="9360">
            <a:solidFill>
              <a:srgbClr val="fdfdf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Velocity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speed and direction of the wave.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v = d (distance)/t (time)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also,  v = ƒ </a:t>
            </a:r>
            <a:r>
              <a:rPr b="0" i="1" lang="en-US" sz="3600" spc="-1" strike="noStrike">
                <a:solidFill>
                  <a:srgbClr val="fdfdfd"/>
                </a:solidFill>
                <a:latin typeface="Lucida Grande"/>
                <a:ea typeface="Times New Roman"/>
              </a:rPr>
              <a:t>λ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(units are m/s)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dfdfd"/>
                </a:solidFill>
                <a:latin typeface="Times New Roman"/>
              </a:rPr>
              <a:t>Home 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Read Pg.335-343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Pg. 341#’s 1-4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Pg.343#’s 1-3,5-7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dfdfd"/>
                </a:solidFill>
                <a:latin typeface="Times New Roman"/>
              </a:rPr>
              <a:t>Tacoma Bridge Disaste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3200" spc="-1" strike="noStrike">
              <a:solidFill>
                <a:srgbClr val="fdfdfd"/>
              </a:solidFill>
              <a:latin typeface="Times New Roman"/>
            </a:endParaRPr>
          </a:p>
        </p:txBody>
      </p:sp>
      <p:pic>
        <p:nvPicPr>
          <p:cNvPr id="99" name="Picture 5" descr="tacomaan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T.V. satellite signal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Radi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Ligh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Soun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Earth Quak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Microwav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Fibre optic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X-ray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Cancer treatme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i="1" lang="en-US" sz="9600" spc="-1" strike="noStrike">
                <a:solidFill>
                  <a:srgbClr val="fdfdfd"/>
                </a:solidFill>
                <a:latin typeface="Comic Sans MS"/>
              </a:rPr>
              <a:t>Waves</a:t>
            </a:r>
            <a:endParaRPr b="0" lang="en-US" sz="9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525"/>
                </a:solidFill>
                <a:latin typeface="Comic Sans MS"/>
              </a:rPr>
              <a:t>  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a phenomenon by which energy travels as a result of vibrations or cyclic motions.</a:t>
            </a: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 </a:t>
            </a:r>
            <a:br>
              <a:rPr sz="3600"/>
            </a:br>
            <a:r>
              <a:rPr b="0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ulse 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– is a single ripple or disturbance.</a:t>
            </a:r>
            <a:br>
              <a:rPr sz="3600"/>
            </a:b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ypes of Waves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2525"/>
                </a:solidFill>
                <a:latin typeface="Comic Sans MS"/>
                <a:ea typeface="Times New Roman"/>
              </a:rPr>
              <a:t> 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Electromagnetic waves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ravel through space.  No medium or substance required.  Exhibit alternating electric and magnetic fields caused by vibrating electrons.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s: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microwave, radio  wave, light, x-ray</a:t>
            </a:r>
            <a:r>
              <a:rPr b="0" i="1" lang="en-US" sz="3600" spc="-1" strike="noStrike">
                <a:solidFill>
                  <a:srgbClr val="fdfdfd"/>
                </a:solidFill>
                <a:latin typeface="Times New Roman"/>
                <a:ea typeface="Times New Roman"/>
              </a:rPr>
              <a:t>                                 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2.</a:t>
            </a:r>
            <a:r>
              <a:rPr b="0" i="1" lang="en-US" sz="44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Mechanical waves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ravel through matter. Energy travels but material doesn’t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s: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water, sound &amp; waves that travel along a spring or rope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ypes of Mechanical Wave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1.</a:t>
            </a:r>
            <a:r>
              <a:rPr b="1" i="1" lang="en-US" sz="40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ransverse waves</a:t>
            </a:r>
            <a:r>
              <a:rPr b="0" i="1" lang="en-US" sz="40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mechanical waves in which the particles of the medium vibrate perpendicular to the direction of energy transfer. 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563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: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waves in a piano or guitar strings 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0" name="Picture 6" descr="transver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4572000"/>
            <a:ext cx="4190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2.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Longitudinal waves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mechanical waves in which the particles of the medium vibrate parallel to the direction of energy transfer. 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4038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: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sound waves</a:t>
            </a:r>
            <a:br>
              <a:rPr sz="3600"/>
            </a:b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3" name="Picture 5" descr="lw"/>
          <p:cNvPicPr/>
          <p:nvPr/>
        </p:nvPicPr>
        <p:blipFill>
          <a:blip r:embed="rId1"/>
          <a:stretch/>
        </p:blipFill>
        <p:spPr>
          <a:xfrm>
            <a:off x="228600" y="2971800"/>
            <a:ext cx="7315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2:29:05Z</dcterms:created>
  <dc:creator>Julie Franklin</dc:creator>
  <dc:description/>
  <dc:language>en-US</dc:language>
  <cp:lastModifiedBy>susan.watson</cp:lastModifiedBy>
  <dcterms:modified xsi:type="dcterms:W3CDTF">2009-12-08T22:54:18Z</dcterms:modified>
  <cp:revision>17</cp:revision>
  <dc:subject/>
  <dc:title>  Waves</dc:title>
</cp:coreProperties>
</file>